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28E-4F47-45C7-A1A9-13D3C1FB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D3A-7712-4444-8E59-26FF4C89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28A-16F3-432F-9494-97A1326B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5ED-B3FB-44EC-A695-BE77631C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EE11-52CA-4F37-A734-2D082AF5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1AE2-D1C0-4A9C-9532-0472FF0F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D0C8-1139-4934-9B83-711412B8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94DE-49C2-4B74-B146-3E1A2219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DF7-4626-446A-A25B-F0506AA0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94AC-C1C5-4014-B46C-7631AA32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290D-B5A5-45EB-9866-914A2F25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7EE-3279-43FB-8B65-79BABD08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CE67-E284-4625-8BFB-A9E09442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EBE5-7B88-4B94-B9BE-D4B19356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1E3A-2F44-43A0-AB0B-D352293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EE84-ADFA-4024-A8E7-D03A97B4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1AF3-EBBD-402B-A7F4-04947007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3F3E-7364-458A-B73B-5B3ACFF6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2A17-5261-4D1C-8FE3-76F45F8C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54A5-4A29-476E-9761-CC0E630D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67E1-07F0-454A-BF85-8FDB9F5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4E1B-E468-431F-97AC-2487565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1DA-19AD-4023-831B-8D915417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BFB3-D426-4314-AB2E-382EE709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06B3-760F-4EF3-AE7D-B4D272F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5875-F667-4526-BB1E-95F7CE82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EE9B-0B91-43F6-B228-A3D41F3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FD6E-31F0-42ED-B358-18D3CFF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5079-C78F-4827-9998-9F6CD755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ABFC-1AE5-43D5-AB1E-0BCBAD3F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804C-750B-4DF8-8465-EF03530D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5619-73B4-48F8-AB1D-F71E88B4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8996-2374-4905-8F07-68EB722E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8EE-C510-4020-9FA9-953F7CBB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80B4-02DA-4E30-A064-C87B8F51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8A7F-5D16-440B-A6D7-2F00D69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3669-A7A2-4515-850E-1E275B7D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1EBB-E623-45C6-9056-5715995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CC45-43EC-4ABB-8BFD-DA938BB4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705A-2E2A-4D44-8B25-EE75B1A6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8159-AAEF-4245-9907-955FE6DD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DD07-8385-4D0E-B7FB-9C8770FE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56A1-010C-4F66-BB9B-D7A568B5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4A2-9F5C-4C55-8704-AC44995D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AC4-69D4-449F-8386-24F4E7D2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229-1CED-4076-BF8D-72490CCF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FF0-8718-4F64-99C6-8F2145B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6B4-4239-4076-8C8D-CCE6C72C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CF4C-C9AE-4AD8-B5BF-D2191817EC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839A-EEE7-4308-AA6C-F07CA0F3E6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C60-2967-4082-ACB0-C0F25D91CE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E1F2-9FB7-4C53-A55C-3E9AFF4F28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Arial"/>
              </a:rPr>
              <a:t>Мутагени агенс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Constantia"/>
              </a:rPr>
              <a:t>•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Базни аналози</a:t>
            </a: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супституција оригиналних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5-бромурацил –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Т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2-аминопурин -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А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Азотне базе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хемикалије које мењају структуру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врше дезаминацију ба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елиминација амино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из базе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азотаста кис., етил-метансулфонат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U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ксантин (ксантин с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некада спаруј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, а у неким слу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чајевима се н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спаруј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па се репликација зауставља)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хипоксантин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везује се з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549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CS" sz="28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лкилирајући 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Constantia"/>
              </a:rPr>
              <a:t>–</a:t>
            </a:r>
            <a:r>
              <a:rPr b="0" i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ју алкил групу изм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а у молекулу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нитр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озогуаноз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метил 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л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Latn-CS" sz="2800" spc="-1" strike="noStrike">
                <a:solidFill>
                  <a:srgbClr val="ecec0c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Интеркалирајући</a:t>
            </a:r>
            <a:r>
              <a:rPr b="0" i="1" lang="sr-Latn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ђују се изм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е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а; доводе до мутација типа помака (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frameshift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диум бромид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акридин оранж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профлав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Constantia"/>
              </a:rPr>
              <a:t>Агенси који  НЕ делују директно на ДНК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репаративне механизме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молекул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протеи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Антимутаген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супстанце које умањују мутагено дејство  хемијских агена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рсте хемијских агенаса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65628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природн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афе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фил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бром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биљни алкалои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индустријск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редински хемијски мутаге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ес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сек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Винилхлори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дитиви, конзерванси, боје у прехрамбеној индустрији, емулгатори (Е123, 221-226, 250-251, 320-322, 338-341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ви (цитостатици, седативи, антибиотици, дрог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. ефекат </a:t>
            </a:r>
            <a:r>
              <a:rPr b="0" lang="sr-Latn-CS" sz="2200" spc="-1" strike="noStrike">
                <a:solidFill>
                  <a:srgbClr val="ff0066"/>
                </a:solidFill>
                <a:latin typeface="Arial"/>
                <a:ea typeface="Arial"/>
              </a:rPr>
              <a:t>Талидоми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мутагено и тератогено дејств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фекат талидоми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thalidomidecollage1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547280" y="1052280"/>
            <a:ext cx="568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ИЗИЧКИ АГЕНСИ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Не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0066"/>
                </a:solidFill>
                <a:latin typeface="Arial"/>
              </a:rPr>
              <a:t>Нејонизујуће зрачење - </a:t>
            </a:r>
            <a:r>
              <a:rPr b="1" lang="sr-Latn-CS" sz="4600" spc="-1" strike="noStrike">
                <a:solidFill>
                  <a:srgbClr val="ff0066"/>
                </a:solidFill>
                <a:latin typeface="Arial"/>
              </a:rPr>
              <a:t>UV</a:t>
            </a:r>
            <a:r>
              <a:rPr b="1" lang="sr-Latn-CS" sz="46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ла продорност кроз тки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етљивији су организми на 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м ступњу еволутивне леств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фазе 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употребљене до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 повећањем дозе расте фреквенца оштећења (постоји праг деловањ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у  димери у молекулу ДНК (најчешће Т=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о зрачење које у току интеракције са материјом кроз коју пролази може да врш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онизаци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тома и молеку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ајам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електромагнетне талас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Х-зраци и гама-зрац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корпускуларно зра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електрони, протони, позитрони, алфа-зраци и неутрон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варује кумулативни ефек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постоји пра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еј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 се објашњава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еоријом слободних радикала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и на ДНК могу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ин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Object 7"/>
          <p:cNvGraphicFramePr/>
          <p:nvPr/>
        </p:nvGraphicFramePr>
        <p:xfrm>
          <a:off x="6012000" y="3645000"/>
          <a:ext cx="256860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645000"/>
                    <a:ext cx="256860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понт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35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знати фактори који доводе до мутац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шке приликом репликациј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понтана стопа мутације по гену изно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а стопа мутације по нуклеотиду изно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681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 молекулу ДНК изази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једн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в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slika - zracenje i DNK"/>
          <p:cNvPicPr/>
          <p:nvPr/>
        </p:nvPicPr>
        <p:blipFill>
          <a:blip r:embed="rId1"/>
          <a:stretch/>
        </p:blipFill>
        <p:spPr>
          <a:xfrm>
            <a:off x="5437080" y="1773360"/>
            <a:ext cx="3706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врсте 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најосетљивији су сисари, а међу њима чов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улетална доза за човека је  4-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инсекте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бактерије 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Протозое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физиолошког ст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организ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з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умеричк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руктурн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генске мутациј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Фактори који појачавају генотоксични ефекат јонизујућег зрачења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45a9e"/>
                </a:solidFill>
                <a:latin typeface="Constantia"/>
              </a:rPr>
              <a:t>              </a:t>
            </a:r>
            <a:r>
              <a:rPr b="1" lang="en-US" sz="3600" spc="-1" strike="noStrike">
                <a:solidFill>
                  <a:srgbClr val="645a9e"/>
                </a:solidFill>
                <a:latin typeface="Constantia"/>
              </a:rPr>
              <a:t>	</a:t>
            </a:r>
            <a:r>
              <a:rPr b="1" lang="sr-CS" sz="3600" spc="-1" strike="noStrike">
                <a:solidFill>
                  <a:srgbClr val="ff0066"/>
                </a:solidFill>
                <a:latin typeface="Arial"/>
              </a:rPr>
              <a:t>кисеоник -  </a:t>
            </a:r>
            <a:r>
              <a:rPr b="1" lang="sr-Latn-CS" sz="3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sr-Latn-CS" sz="3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sr-Latn-CS" sz="3600" spc="-1" strike="noStrike" baseline="30000">
                <a:solidFill>
                  <a:srgbClr val="cc009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исеонички ефекат има улогу у формирању реактивних пероксида - слободних радика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onstantia"/>
              </a:rPr>
              <a:t>Биолошки мутагени - </a:t>
            </a:r>
            <a:r>
              <a:rPr b="1" lang="sr-CS" sz="4800" spc="-1" strike="noStrike">
                <a:solidFill>
                  <a:srgbClr val="ff0066"/>
                </a:solidFill>
                <a:latin typeface="Constantia"/>
              </a:rPr>
              <a:t>вирус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Р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осебна група РНК вируса - РНК-ДНК вируси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субцелуларни организ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пособност док су слободни у ваздуху да се размножава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опствени метабо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показују јасан афинитет према одређеним генима или деловима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Вирусна нуклеинска киселина се у ћелији домаћину умножава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зависно (лизоген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или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независно (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лога вируса у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2637000"/>
            <a:ext cx="763272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атогенез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онкогенези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 вирусни онко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роменама у генетичком материјалу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ске мутације, хромозомске аберације типа прек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600" spc="-1" strike="noStrike">
                <a:solidFill>
                  <a:srgbClr val="000000"/>
                </a:solidFill>
                <a:latin typeface="Arial"/>
                <a:ea typeface="Arial"/>
              </a:rPr>
              <a:t>вежб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  ГЕНОТОКСИЧНИХ АГЕНА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Хумани кариоти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Стандардизација хуманог карио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агенси присутни у човековој средини имају способност индуковања промена у наследном материјалу герминативних или соматских ћелија човека. Овакви агенси се означавају као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ТОКСИЧН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ГЕНС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а токсиколог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8991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задатак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текција генотоксичних агена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генетичкој токсикологији постоји систем одабирања и давања приоритета супстанцама које треба тестирати 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елекција пиоритета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Индуков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Фактори који могу проузроковати мутације с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МУТАГЕНИ АГЕНС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фактор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опа индуковане мута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 сваки 7. нуклеотид на 100 нуклеотида претрпи мутацију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учавање мутација – вештачко индуковање мутација помоћу различитих мутагених агена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54900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лекција приорит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32000" y="2276280"/>
            <a:ext cx="65167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произведене супстанц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старих супстанц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нових и старих супстанц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којима се мења нам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пшти квалитети тест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именљивост добијених резултата на чове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ет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нов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пособност детекције генотоксичног потенцијала што већег броја агенас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кватна статистичка анализа резулта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рзина извођења те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дноставност извођења теста и цена коштањ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343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литератури је познато преко 100 експерименталних процед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у Европи се од 1986. год. примењује 15 основних тестова груписаних на основу генетичког ефекта који детектуј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9640" y="2543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КОЈИМА СЕ ДЕТЕКТУ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ГЕНСКЕ МУТА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ОТКРИВАЊЕ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ЕФЕКАТА НА НИВОУ Д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57120" y="5716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и тестови подељени су на три основне гру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тес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SCE"/>
          <p:cNvPicPr/>
          <p:nvPr/>
        </p:nvPicPr>
        <p:blipFill>
          <a:blip r:embed="rId1"/>
          <a:stretch/>
        </p:blipFill>
        <p:spPr>
          <a:xfrm>
            <a:off x="54000" y="3290760"/>
            <a:ext cx="909000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тест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прате оштећењ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иво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а 5-бромдеоксиуридин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r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 се раст ћелија у култури и разликују с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тоз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4648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Slika 2"/>
          <p:cNvPicPr/>
          <p:nvPr/>
        </p:nvPicPr>
        <p:blipFill>
          <a:blip r:embed="rId1"/>
          <a:stretch/>
        </p:blipFill>
        <p:spPr>
          <a:xfrm>
            <a:off x="3276720" y="333360"/>
            <a:ext cx="43653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24588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Slika 1"/>
          <p:cNvPicPr/>
          <p:nvPr/>
        </p:nvPicPr>
        <p:blipFill>
          <a:blip r:embed="rId1"/>
          <a:stretch/>
        </p:blipFill>
        <p:spPr>
          <a:xfrm>
            <a:off x="2627280" y="33336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40384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Slika 3"/>
          <p:cNvPicPr/>
          <p:nvPr/>
        </p:nvPicPr>
        <p:blipFill>
          <a:blip r:embed="rId1"/>
          <a:stretch/>
        </p:blipFill>
        <p:spPr>
          <a:xfrm>
            <a:off x="3348000" y="105264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SC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-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на сестринских хроматида настаје као последица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митози (соматски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реципрочна размена сегмен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се налазе на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логим локусима две сестринске хромати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фазног хромозома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.   </a:t>
            </a:r>
            <a:r>
              <a:rPr b="0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оствари своје ефекте на свим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ивоима организације живе матер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тки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организ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лује на више различитих начи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канцер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алигну трансформациј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мута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утациј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ерат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промену у структури органа током ембрионалног развић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оксич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бија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биолошки неутрал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не узрокује проме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2071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UMAN SISTER CHROMATID EXCHANGES </a:t>
            </a:r>
            <a:endParaRPr b="0" lang="en-US" sz="1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6292800"/>
            <a:ext cx="914400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lymphocyte cells treated with bromodeoxyuridine (BrdU) and stained with propidium iodide.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by Portia Cortes, California State University-Stanislau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sce.gif (104999 bytes)"/>
          <p:cNvPicPr/>
          <p:nvPr/>
        </p:nvPicPr>
        <p:blipFill>
          <a:blip r:embed="rId1"/>
          <a:stretch/>
        </p:blipFill>
        <p:spPr>
          <a:xfrm>
            <a:off x="2195640" y="260280"/>
            <a:ext cx="61513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foto_SCE"/>
          <p:cNvPicPr/>
          <p:nvPr/>
        </p:nvPicPr>
        <p:blipFill>
          <a:blip r:embed="rId1"/>
          <a:stretch/>
        </p:blipFill>
        <p:spPr>
          <a:xfrm>
            <a:off x="1944720" y="457200"/>
            <a:ext cx="503244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 ТЕС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3" descr="MN sema najnovij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-360" y="857160"/>
            <a:ext cx="8381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нуклеус тест се користи за детекциј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детекциј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еуг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тогених агенас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ност теста - брзина и једноставност извођењ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нива се н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у хроматинских телашац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цитоплазми ћел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 изгледају ка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 једра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и (МН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5668920" y="3986280"/>
            <a:ext cx="3276720" cy="2809800"/>
          </a:xfrm>
          <a:prstGeom prst="rect">
            <a:avLst/>
          </a:prstGeom>
          <a:ln w="0">
            <a:noFill/>
          </a:ln>
        </p:spPr>
      </p:pic>
      <p:sp>
        <p:nvSpPr>
          <p:cNvPr id="273" name="Right Arrow 5"/>
          <p:cNvSpPr/>
          <p:nvPr/>
        </p:nvSpPr>
        <p:spPr>
          <a:xfrm>
            <a:off x="4419720" y="4572000"/>
            <a:ext cx="83808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642600"/>
            <a:ext cx="88390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  <a:ea typeface="Arial"/>
              </a:rPr>
              <a:t>еханизам настанка микронуклеус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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функција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ер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об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971640" y="1197000"/>
            <a:ext cx="3240000" cy="25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4429080" y="1285920"/>
            <a:ext cx="4011480" cy="235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214880" y="4076640"/>
            <a:ext cx="4929120" cy="25146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179280" y="378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 тест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ктују с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прекиди на хромозом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оштећење хромозома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центромерном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е ћелија за анализу микронуклеус тестом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2143080"/>
            <a:ext cx="89917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исарски материјал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на срж миша - полихроматски еритр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0.31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5" descr="Micronuclei in mouse polychromatic erythrocytes "/>
          <p:cNvPicPr/>
          <p:nvPr/>
        </p:nvPicPr>
        <p:blipFill>
          <a:blip r:embed="rId1"/>
          <a:stretch/>
        </p:blipFill>
        <p:spPr>
          <a:xfrm>
            <a:off x="5219640" y="3573360"/>
            <a:ext cx="3621240" cy="2971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52280" y="57150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 Micronuclei in mouse polychromatic erythrocytes (arrow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9280" y="1071720"/>
            <a:ext cx="8964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Хумани материјал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крв човека 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кинезис блок микронуклеус тест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BM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тура лимфоцита периферне крви 7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/32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 почетка култивације културама се дода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халазин 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супастанца која блокира цитокинезу, па добијамо ћелије бинуклаерног изглед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-12 МН/1000 БН ћел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D:\DOKTORAT RADNA VERZIJA\Slike iz UVODA  za radnu doktorsku disertaciju\BN celije bez MN copy.jpg"/>
          <p:cNvPicPr/>
          <p:nvPr/>
        </p:nvPicPr>
        <p:blipFill>
          <a:blip r:embed="rId1"/>
          <a:stretch/>
        </p:blipFill>
        <p:spPr>
          <a:xfrm>
            <a:off x="0" y="152280"/>
            <a:ext cx="5340240" cy="3300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без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МН 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с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D:\DOKTORAT RADNA VERZIJA\Slike iz UVODA  za radnu doktorsku disertaciju\Slika BN sa MN.jpg"/>
          <p:cNvPicPr/>
          <p:nvPr/>
        </p:nvPicPr>
        <p:blipFill>
          <a:blip r:embed="rId2"/>
          <a:stretch/>
        </p:blipFill>
        <p:spPr>
          <a:xfrm>
            <a:off x="3733920" y="3581280"/>
            <a:ext cx="5410080" cy="3116520"/>
          </a:xfrm>
          <a:prstGeom prst="rect">
            <a:avLst/>
          </a:prstGeom>
          <a:ln w="0">
            <a:noFill/>
          </a:ln>
        </p:spPr>
      </p:pic>
      <p:sp>
        <p:nvSpPr>
          <p:cNvPr id="287" name="Curved Left Arrow 5"/>
          <p:cNvSpPr/>
          <p:nvPr/>
        </p:nvSpPr>
        <p:spPr>
          <a:xfrm>
            <a:off x="7086600" y="1371600"/>
            <a:ext cx="914400" cy="10666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0720 h 1066680"/>
              <a:gd name="textAreaBottom" fmla="*/ 7714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3163700"/>
                <a:lnTo>
                  <a:pt x="5400" y="21367"/>
                </a:lnTo>
                <a:lnTo>
                  <a:pt x="0" y="16972"/>
                </a:lnTo>
                <a:lnTo>
                  <a:pt x="5400" y="12110"/>
                </a:lnTo>
                <a:lnTo>
                  <a:pt x="5400" y="14424"/>
                </a:lnTo>
                <a:arcTo wR="21600" hR="7329" stAng="3163700" swAng="-2777103"/>
                <a:lnTo>
                  <a:pt x="20494" y="9643"/>
                </a:lnTo>
                <a:arcTo wR="21600" hR="7329" stAng="-386597" swAng="-5013403"/>
                <a:close/>
              </a:path>
              <a:path fill="darkenLess"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-386597"/>
                <a:lnTo>
                  <a:pt x="20494" y="9643"/>
                </a:lnTo>
                <a:arcTo wR="21600" hR="7329" stAng="-386597" swAng="-5013403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Right Arrow 6"/>
          <p:cNvSpPr/>
          <p:nvPr/>
        </p:nvSpPr>
        <p:spPr>
          <a:xfrm>
            <a:off x="1143000" y="4724280"/>
            <a:ext cx="1676520" cy="12956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202320 h 1295640"/>
              <a:gd name="textAreaBottom" fmla="*/ 9313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467116"/>
                <a:lnTo>
                  <a:pt x="17427" y="21473"/>
                </a:lnTo>
                <a:lnTo>
                  <a:pt x="21600" y="16200"/>
                </a:lnTo>
                <a:lnTo>
                  <a:pt x="17427" y="10673"/>
                </a:lnTo>
                <a:lnTo>
                  <a:pt x="17427" y="13373"/>
                </a:lnTo>
                <a:arcTo wR="21600" hR="6750" stAng="7332884" swAng="300113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55044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400" spc="-1" strike="noStrike">
                <a:solidFill>
                  <a:srgbClr val="000000"/>
                </a:solidFill>
                <a:latin typeface="Arial"/>
                <a:ea typeface="Gulim"/>
              </a:rPr>
              <a:t>3. 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04920" y="2819520"/>
            <a:ext cx="8838720" cy="3361680"/>
            <a:chOff x="304920" y="2819520"/>
            <a:chExt cx="8838720" cy="3361680"/>
          </a:xfrm>
        </p:grpSpPr>
        <p:graphicFrame>
          <p:nvGraphicFramePr>
            <p:cNvPr id="291" name="Object 4"/>
            <p:cNvGraphicFramePr/>
            <p:nvPr/>
          </p:nvGraphicFramePr>
          <p:xfrm>
            <a:off x="304920" y="2820960"/>
            <a:ext cx="2866320" cy="336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820960"/>
                      <a:ext cx="2866320" cy="33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5"/>
            <p:cNvGraphicFramePr/>
            <p:nvPr/>
          </p:nvGraphicFramePr>
          <p:xfrm>
            <a:off x="3397320" y="2819520"/>
            <a:ext cx="2894760" cy="333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97320" y="2819520"/>
                      <a:ext cx="2894760" cy="33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6"/>
            <p:cNvGraphicFramePr/>
            <p:nvPr/>
          </p:nvGraphicFramePr>
          <p:xfrm>
            <a:off x="6468840" y="2832840"/>
            <a:ext cx="2674800" cy="332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68840" y="2832840"/>
                      <a:ext cx="2674800" cy="332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1920" y="171468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м се детектују хромозомске аберациј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врсте тестова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tro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у култури ћелиј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v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ајчешћ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 ћелиј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ји се користи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за тестирање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ЛИМФОЦИТИ ПЕРИФЕРНЕ КРВ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због једноставности добијања узор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Ћелијске линије, нпр.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CHO линиј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ћелије из оваријума кинеског хрчка) има 22 хромозома и ћелијски циклус траје 1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142920" y="35712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зрокују мут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6920" y="1988640"/>
            <a:ext cx="8066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Хемиј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Физички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генси – зрач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температура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Биолош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 – виру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71640" y="1491840"/>
            <a:ext cx="75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РЕЗУЛТАТ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ТЕСТ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 добијеним препаратима анализирају 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АБЕРАЦ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у то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атидни прекид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, а ређе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а прегледати око 30 хромозомских гарни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ка обрада резул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емијски агенс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412640"/>
            <a:ext cx="83311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1949. познато је да хемијске супстанце могу изазвати промене у генетичком материјал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исно од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фазе ћелијског цикл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зроку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атид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2 и S фази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1 фази) 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оштећења пропорционална је употребљеној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Arial"/>
              </a:rPr>
              <a:t>до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оза је количина супстанце која реагује са молекулом 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и су у индукцији пром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д одређеног по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одређеној фази ћ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ј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да доведу до мутација у било ком делу генома, тј. у било ком ге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</a:t>
            </a:r>
            <a:r>
              <a:rPr b="0" lang="sr-Latn-CS" sz="4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560" y="1341360"/>
            <a:ext cx="8893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1. 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ХРОМОЗОМСКЕ АБЕР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умерич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липлоидиј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неуплоид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 Структур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берације типа преки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хроматидних и хромозом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хроматске ле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нвер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рстенасти хромозом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дицентрични хромозо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 ГЕНСКЕ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64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акција хемијских агенаса са молекулом ДНК може бит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н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захтевају метаболичку активаци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1-08-26T09:17:26Z</dcterms:modified>
  <cp:revision>235</cp:revision>
  <dc:subject/>
  <dc:title>MUTACIJE GENA</dc:title>
</cp:coreProperties>
</file>